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6A9D-971A-4435-870D-6F05D6C73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0288-879D-444C-A910-EFC5D8D0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8CBF-33BE-4B27-84C0-CB672B7A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9B7D-DA6D-4052-BB8C-465AE08AF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167E-1783-4AC5-B886-C7441DEA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4A80-8AE7-4D72-9359-906E1F35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7865-659A-46FD-8A2D-7689C696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5BB0-5F40-49E8-A4F4-4BE4B4CF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94DD-2E40-4925-9799-43BFAC56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1ED9-7F31-4F9A-A640-79A802AE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6268-1963-4B20-9E33-7895F435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F869-0E83-4346-A96B-E9ECA613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06D3-DFDB-4143-9006-EF9D9B18638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898989"/>
              </a:solidFill>
              <a:latin typeface="맑은 고딕"/>
            </a:endParaRPr>
          </a:p>
        </p:txBody>
      </p:sp>
      <p:pic>
        <p:nvPicPr>
          <p:cNvPr id="43" name="그림 3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그림 3" descr="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그림 3" descr="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그림 3" descr="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그림 3" descr="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그림 2" descr="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그림 3" descr="1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그림 3" descr="1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그림 7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그림 18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그림 3" descr="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그림 3" descr="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그림 3" descr="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그림 3" descr="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그림 3" descr="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2T07:13:50Z</dcterms:created>
  <dc:creator>nayana</dc:creator>
  <dc:description/>
  <dc:language>en-US</dc:language>
  <cp:lastModifiedBy>rachel</cp:lastModifiedBy>
  <dcterms:modified xsi:type="dcterms:W3CDTF">2012-12-07T08:10:26Z</dcterms:modified>
  <cp:revision>5</cp:revision>
  <dc:subject/>
  <dc:title>슬라이드 1</dc:title>
</cp:coreProperties>
</file>